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E2E-7D7A-4AD8-98F0-2EE85B1E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6AC-F4C0-4D91-96D8-8321F614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CEA-CC8F-4CD3-BFEE-1C2027FE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5F7-8811-4007-A88B-39FDC377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8E6-686F-41C8-B661-514E482E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F57-F990-4DBB-9D76-4EF84AC8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72C-4F77-4395-AEDD-B5129AB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CA3-C47F-43C3-BB14-A746AC69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358-0337-457F-8C36-223F7951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5BE-FF96-426D-A3FA-76BD242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3E0-A5EA-4B1B-BDB8-63AD95BB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DBF-7EFB-4273-A899-FE477B09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9BC20-EE28-4816-BFA6-EC6D7298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5756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Dll = LoadLibrary(TEXT(“DGDPA532.dll”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DG_PassThruOpen = GetProcAddress(hDll,”PassThruOpen”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DG_PassThruConnect = GetProcAddress(hDll,”PassThruConnect”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Script Equivalen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t(libisloaded('DGDPA532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file = ['C:\Dearborn Group Products\DPA 5 J2534\j2534.h'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library('DGDPA532', hfil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Thru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5756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 = DG_PassThruOpen(NULL,&amp;ulDevice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Script Equivalen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 = 'J2534_STATUS_NOERROR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lDeviceID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ummy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rror,dummy, ulDeviceID] = calllib('DGDPA532', 'PassThruOpen', 0, ulDevice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t(strcmp(error,'J2534_STATUS_NOERROR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Thru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5756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 = DG_PassThruConnect(ulDeviceID,5,ulFlags,500000,&amp;ulCha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Script Equivalen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Protocol = 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ags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ud = 500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lChannelID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rror, ulChannelID] = calllib('DGDPA532', 'PassThruConnect', ulDeviceID, nProtocol, flags, baud, ulChannel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t(strcmp(error,'J2534_STATUS_NOERROR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ThruReadMs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279080"/>
            <a:ext cx="957564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 = DG_PassThruReadMsg(ulChan,pMsg,1,ulTime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Script Equivalen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 = libstruct('PASSTHRU_MSG'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.ucData(12)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.ulProtocolID = nProtoc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set the number of message to r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lNum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set 500ms timeo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lTimeout = 50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rror, Msg(1), ulNum] = calllib('DGDPA532', 'PassThruReadMsgs', ulChannelID, Msg(1), ulNum, ulTimeou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t(strcmp(error,'J2534_STATUS_NOERROR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rcmp(error,'J2534_ERR_BUFFER_OVERFLOW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mat he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.ucDat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mat he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.uc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8:09:54Z</dcterms:created>
  <dc:creator>Mark Ciechanowski, P.E., CSDP</dc:creator>
  <dc:description/>
  <dc:language>en-US</dc:language>
  <cp:lastModifiedBy/>
  <cp:revision>1</cp:revision>
  <dc:subject/>
  <dc:title/>
</cp:coreProperties>
</file>