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53F-1ABF-48D3-AA6A-D41E13C9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22E-2688-494F-9C14-AB3856F8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96C-2F94-4CFC-AE2B-E92BC615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3BD-01C3-403A-822F-A6A58B3A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A4D-27A9-442E-9EF6-2FDECDEF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00F-F90C-42C5-85F7-83A0A829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DDD-1048-40D7-AB38-96B8AA9D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B6B-2A0F-472C-BB87-AE5143FA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284-13DE-40B5-ABC8-1EE3233C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821-0474-497B-BA1F-8B10121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F4A-A779-4FFC-8664-36E7506A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60B-3E61-40B3-9A73-5915CE40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360EC-09F9-4D29-9726-2EB5F716D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5756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C++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Dll = LoadLibrary(TEXT(“DGDPA532.dll”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DG_PassThruOpen = GetProcAddress(hDll,”PassThruOpen”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DG_PassThruConnect = GetProcAddress(hDll,”PassThruConnect”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Script Equivalent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not(libisloaded('DGDPA532'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file = ['C:\Dearborn Group Products\DPA 5 J2534\j2534.h'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library('DGDPA532', hfil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Thru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5756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C++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 = DG_PassThruOpen(NULL,&amp;ulDevice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Script Equivalent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 = 'J2534_STATUS_NOERROR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lDeviceID =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ummy =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error,dummy, ulDeviceID] = calllib('DGDPA532', 'PassThruOpen', 0, ulDeviceI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not(strcmp(error,'J2534_STATUS_NOERROR'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Thru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5756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C++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 = DG_PassThruConnect(ulDeviceID,5,ulFlags,500000,&amp;ulCha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Script Equivalent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Protocol = 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ags =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ud = 500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lChannelID =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error, ulChannelID] = calllib('DGDPA532', 'PassThruConnect', ulDeviceID, nProtocol, flags, baud, ulChannelI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not(strcmp(error,'J2534_STATUS_NOERROR'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ThruReadMs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279080"/>
            <a:ext cx="957564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C++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 = DG_PassThruReadMsg(ulChan,pMsg,1,ulTimeO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Script Equivalent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g(1) = libstruct('PASSTHRU_MSG'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g(1).ucData(12) =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g(1).ulProtocolID = nProtoc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set the number of message to re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lNum =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set 500ms timeo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lTimeout = 50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error, Msg(1), ulNum] = calllib('DGDPA532', 'PassThruReadMsgs', ulChannelID, Msg(1), ulNum, ulTimeou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not(strcmp(error,'J2534_STATUS_NOERROR'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rcmp(error,'J2534_ERR_BUFFER_OVERFLOW'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mat he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g(1).ucDat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mat he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g(1).ucDa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8:09:54Z</dcterms:created>
  <dc:creator>Mark Ciechanowski, P.E., CSDP</dc:creator>
  <dc:description/>
  <dc:language>en-US</dc:language>
  <cp:lastModifiedBy/>
  <cp:revision>1</cp:revision>
  <dc:subject/>
  <dc:title/>
</cp:coreProperties>
</file>